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2FE7-160C-4070-8D0B-B4F0FF9FE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5796-BA0D-4F56-B932-1E1CC9AAE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9FD7-4614-45D6-9346-598AA9972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DDEB-BFC3-4F19-BBCE-7C6DCEDB3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41ADE-6E87-4A5C-8ADF-85DD89D1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C348-8A0E-40E2-BF34-10B58FBE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609DB-0FA1-4646-B2F7-88E58583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579AA-F855-41C8-9AEC-8FFD42A6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C9628-3165-4ED4-AF27-A611A166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B1537-376E-43F3-B46E-B821928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546D0-8119-47EC-8D96-AF3FA7B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9915-17F7-4BBC-9479-E25BFFB6E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87E76-EAFB-4A45-BFF6-0C71F02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52B21-153B-4D2C-8C11-6297502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CBCF7-12BD-4222-A541-23A26F7E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2219F-A33C-4C71-835B-D36A1E6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A1100-C320-4524-B8EE-251A8138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F482-CDED-4499-9B28-709013033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2BAD-CB87-40C9-97E5-08509431E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BBCE-F325-4A83-8A8A-2D5F4E3AD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805B-DE50-4D90-A5C0-2E69912DC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4C2A-C6E0-42CB-99EC-456526740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0EBA-6CAF-4285-AD89-768E2F587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9EC5-181C-4E2B-B013-8D55975D2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29F-6649-4AA8-ABCE-C0999B9310C6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3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5321-17A7-43BF-BB3B-FEF6A4E25AD3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alims.gov.rs/ciril/lekov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9372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en-US" sz="2500" spc="-1" strike="noStrike">
                <a:solidFill>
                  <a:srgbClr val="cc0000"/>
                </a:solidFill>
                <a:latin typeface="Candara"/>
              </a:rPr>
              <a:t>6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3338640"/>
            <a:ext cx="82090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Издавање лекова хендикепираним особама</a:t>
            </a: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(са ослабљеним слухом и/или ослабљеним видом)</a:t>
            </a: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Фармакотерапија најчешћих обољења уха, грла и носа у примарној здравственој заштити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Инфекције горњих респираторних путев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специфичне инфекције горњих респираторних путев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инусити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тити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арингити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арингити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онзилити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пиглотити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Прехлад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кутна инфекција вирусна по пореклу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иновирус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ронавирус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Вируси инфлуенце и параинфлуенц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деновирус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нтеровирус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Третман – симптоматски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ndara"/>
              </a:rPr>
              <a:t>Гушобоља, кијање, секреција из носа, конгестија носа, језа, грозница, кашаљ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ndara"/>
              </a:rPr>
              <a:t>Назални или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Candara"/>
              </a:rPr>
              <a:t>орални</a:t>
            </a:r>
            <a:r>
              <a:rPr b="0" lang="sr-CS" sz="1600" spc="-1" strike="noStrike">
                <a:solidFill>
                  <a:srgbClr val="000000"/>
                </a:solidFill>
                <a:latin typeface="Candara"/>
              </a:rPr>
              <a:t> деконгестив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ndara"/>
              </a:rPr>
              <a:t>Комбиновани препарат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Грип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nfluenzavirus A  Influenzavirus B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H1-H3 /N1 I N2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Честе антигенске варијанте вирус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тарији од 65 , примарна мера – годишња вакцијанција особа са повећаним ризиком од компликација – најчешће тривалентне вакције (H1N1 H3N2 I  B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селтамивир и занамивир – инхибитори неураминидазе – 12 сати од почетка – максимално 48 сати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дамантани (амантадин и римантадин) – поједини сојеви H1N1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Риносинуситис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1 од 4 параназална синуса (максиларни, етмоидални, фронтални и сфеноидални)- и назална слузниц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ужина трајања- акутни - мање од 4 недеље (најчешће последица ви); хронични више од 12 недеља (персистентни патогени/ имунски одговор Б/ГИ)- 2’-10%----90-98% В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БРС-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S. pneumoniae H. influenzae-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моксицилнин-клавулонат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флуорохинолини, доксициклин, цефалоспорини II и III per os  + клиндамицин----&gt; интрахоспитално iv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Иригација физиолошким раствором/хипертоним раствором натријум-хлорид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Некада и муколитик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Алергијски ринитис- интраназални кортикостероид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Аубакутна фаза деконгестиви – капи/спреј за но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Хронични синузитис- интраназални кортикостероиди  и  иригација +- алергија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-243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Интраназалних кортикостеродији- 3 меесеца- H20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3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Акутни фарингитис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Вирусна (риновируси, аденовируси, коронавируси, херпес, инфлуенза) или бактеријска (стрептокок) етиологи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GABHS: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entor skor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влачи се без третмана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еницилини- цефалоспорини I- макролиди/ клиндамици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Otitis media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лузница средњег ува- акутна/хронична; неспецифична/специфична; негнојна/гној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MA OM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MA- оталгија, грозница, притисак/запушеност у уху, осечај зујањ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Хиперемија бубне опне, оторе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ретма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колико је присутан бол- аналгеик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нтибиотска терапија - када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моксициклин- уколико није претходила терапија истим леком у 30 дана, нема гнојног конјунктивитиса и алерги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моксицилин клавуланат (4:1 и 7:1----- 14:1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Цефалоспорини II и III- цефуроксим; цефдинир, цефподоксим цефтриакс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колико нема побољшања накох 48-72 часа- парентерална примена; клиндамицин ± цефалоспорин III--------- парацентеза када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-2484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офилакса- не сматрамо је рационално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Алергијски ринитис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Запаљење слузнице носа- кијање, ринореја, конгестија, свраб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инфективни ринитис- алергијска/ неалергијска природ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лергијски ринитис- кијање, пруритус, ринореја, конгестија (назалн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gE антитела; Th2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gE- мастоцити---------хистамин, простагландин D2 и цистеинил-леукотриени- назална мукоза------- рани симптоми- кијавица, свраб, ринореја---- у наредним сатима Th2 инфламација симптоми касне фазе (назална конгестиј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ашаљ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топијски екце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лага/умерена/ тешк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нтермитентни/персистентн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4 категор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Фармакотерапиј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рални и интраназални антихистаминици- епизодични и благи симпотоми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азални антихистаминици+интраназални кортикостероиди – умерени и тешки симптом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нтихистаминици прве и друге (боља селективност и мањи број НД) геннерац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зеластин и олопатадин-интраназални АХ- локални-делују брже (30 мин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Назална конгестија +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Окуларни проблеми –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Горак укус, иритација, поспаност, 2 пута дневно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евокабастин и бепотастин- примена у виду капи за очи- алергијски конјунктивити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Фармакотерапиј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нтраназални кортикостероиди- триамцинолон, мометазон фуроат, флутиказон пропионат, флутиказон фуроат, флунизолид, циклесонид, будесонид, беклометазон дипропионат- било самостално или као комбинована терапи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лутиказон мометазон најпотентнији и више липофилни----- триамцинолон и флунизолид најмање липофилн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фекат мах- 7-14 да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еклометазон и флунизолид- на 12 часова, остали 24 ча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Могу ли спречити касне симптоме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нгестија отежава долазак лека на место деловањ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Д- епистакса, сувоћа слузнице, пецкање и иритација (дозно зависна; превенција назална примена сланих раствора); улцерације/перфорације септума- правила примера- усмеравање спреја латералн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лутиказон и мометазон мала СР (1%) беклометазон (41%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С per os -&lt;3 н у 3 м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следња лествиц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617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Фармакотерапиј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ndara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1 АР-локално краткотрајно (5-10 минута пре др т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окални- оксиметазолин, ксилометазолин, фенилефрин+леримазолин, нафазолин, ефедрин- без ЛР- брзо дејство 5-10 мину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Д- тахифилаксија; феномен персистентне назалне конгестије; rinitis medicamentosa------ 3-5 дана!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енилефрин и псеудоефедрин – per os  (30 мин)- најчешће у комбинацији са АХ per os –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НД- иритабилност, главобоља, вртоглавица, инсомнија, тремор,  КВ ЦВ ефекти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КИ- болести простат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На почетку...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7880" y="1628280"/>
            <a:ext cx="819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Заштита особа са инвалидитетом један је од најспецифичнијих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јосетљивијих елемената друштвено-развојне, економске и социјалне политике уопште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мператив: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фир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циј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разво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инвалидске заштит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ндивиду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 оквирима модер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оцијалне политик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као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личност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са свим општим и специфичним потребама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Фармакотерапиј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6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-2268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локатори рецептора за леукотриене – монтелукаст- 3 опција благих облика АР – деца блага персистентна астма+алергијски ринитис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-2268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табилизатор мастоцита- кромолин- интраназални спреј – епизодичне АР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519840" indent="-22680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Профилактичко дејство?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lvl="1" marL="519840" indent="-22680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6 пута дневно- комплијанса?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marL="2268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26800" indent="-2268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нтагониста М ресептора- ипратропијум – ринореја рефрактарна на примени КС или АХ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519840" indent="-2268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НД- сува слузница и блага епистакс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26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-2268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мализумаб-рекомбиновано хуманизовано анти-IgE антитело- блокира везивање за мастоците и базофиле – индикован код астме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-2268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лани раствори- NaCl (изотонични хипертонични) некада + Na бикарбонат- велика и мала V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-2268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мунотерапија алегено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6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Терапија болести ок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нјекције- периокуларне и интравитреалне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-250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-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ијагностичка приме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-250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-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ерапија патолошких стањ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истемске концентрације? Тимолол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Хетерогена група- болести предњег сегмен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5756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Суво око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756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Глауком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756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Инфекциј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756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Траум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756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Алергиј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756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Инфламациј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756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5092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Терапија болести ок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озни режим -4-6 пута у изузетним ситуација и кап/ча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Д- катаракта, повећан ИО притисак, имуносупреси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Монокомпонентн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ксаметазон- капи за очи 1 мг/мл и 700мцг интравитреални имплант у апликатору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Хидрокортизон – маст за очи 1%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еднизолон – капи за очи суспентзија 0,5%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Комбинације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Дексаметазон + тобрамицин – капи за очи и маст за очи 1мг/мл + 3 мг/мл или 1 мг/г + 3 мг/г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Дексаметазон + неомицин – капи за очи 1мг/мл + 3,5 мг/мл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Бацитрацин + хидрокортизон  1000Иј/г + 10мг/г маст за очи 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446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37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Conjunctivitis- Pink eye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нфективне или неинфективне етиолог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И- вирусне и бактеријск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НИ- алергијск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арна/ секундар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кутна/хиперакутна/хронич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олест сувог ока-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keratoconjunctivitis sicca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ry eye syndrome (DES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Вештачке сузе- хидроксипропилметилцелулоза или карбоксиметилцелулоз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19200" indent="-2700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У испитивању- кортикостероиди, НСАИЛ, циклоспорин 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Conjunctivitis- Pink eye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9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Вирусна етиологија – аденовирус, херпес вируси,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Хладне компресе + смањити трансмисију (водити рачуна о хигијени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спирање физиолошким растворо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Вештачке сузе + топикални деконгестив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нтивиротици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цикловир – кератитис Herpes simplex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нтибиотици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59200" indent="-2592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ртикостероиди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Conjunctivitis- Pink eye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актеријска етиологија- G+ (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S. pneumoniae S. aureus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 G- (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H. influenzae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лимиксини/бацитрацин; еритромицин, аминогликозиди (тобрамицин, неомицин, гентамицин), флуорохинолони (офлоксацин, ципрофлоксацин, гатифлоксацин, моксифлоксацин, левоффлоксацин), хлорамфеникол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зитромицин 15мг/г 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Хлорамфеникол 1% маст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Моксифлоксацин 5 мг/мл 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ацитрацин + неомицин 500иј/г + 3,3мг/г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флоксацин 3 мг/мл 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евофлоксацин 5 мг/мл 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Ципрофлоксацин 0,3% 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5520" indent="-2455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обрамицин  3мг/мл 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Conjunctivitis- Pink eye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012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лергијск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gE  + алерген ---- активација мастоци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враб, црвенило, субјективни осећај гребања, еде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дентификација алерге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мбинација деконгестива + АХ; стабилизатори мастоцита (кромолин, недокрмил, перироласт, лодоксамид); кетотифен, азеластин, епинастин, бепотастин, олопатадин, алкафтади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куларни деконгестиви (нафазолин, тетрахидрозолин, фенилефрин, ефедрин, бримонидин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куларни АХ (антазолин, фенирамин, левокабастин, емедастин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+ АХ системск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ртикостероиди; НСАИЛ, имуномодулаторна терапи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Глауком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арни- отвореног угла или затвореног угл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екундарни- траума, употреба одређених медикамената, инфекција, туморских промена и др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актор ризика- повишени ИОП, године старости, ПП анамнеза, системски/топикални К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40120" indent="-2401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мањење ИОП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550800" indent="-24012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Повећање брзине отицања очне водиц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50800" indent="-24012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Смањење брзине стварањ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5508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2" marL="813600" indent="-24012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Блокатори б рецептора – тимолол, бетаксолол, картеолол, левобунолол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13600" indent="-24012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0" lang="el-GR" sz="1300" spc="-1" strike="noStrike">
                <a:solidFill>
                  <a:srgbClr val="000000"/>
                </a:solidFill>
                <a:latin typeface="Candara"/>
              </a:rPr>
              <a:t>α</a:t>
            </a: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2 рецептора- апраклонидин и бримонидин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13600" indent="-24012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Инхибитори карбоанхидразе – дорзоламид, бринзоламид, ацетазоламид, метазоламид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13600" indent="0">
              <a:lnSpc>
                <a:spcPct val="85000"/>
              </a:lnSpc>
              <a:spcBef>
                <a:spcPts val="326"/>
              </a:spcBef>
              <a:buNone/>
              <a:tabLst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13600" indent="-24012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Холинергички лекови- пилокарпин, кабахол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13600" indent="-24012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Простафландини- латанопрост, травопрост, биматопрост и тафупрост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13600" indent="0">
              <a:lnSpc>
                <a:spcPct val="85000"/>
              </a:lnSpc>
              <a:spcBef>
                <a:spcPts val="326"/>
              </a:spcBef>
              <a:buNone/>
              <a:tabLst>
                <a:tab algn="l" pos="0"/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1" marL="550800" indent="-24012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Комбинације- тимолол + бринзоламид; тимолом + бримонидин;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4012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Примена препарата – саветовање пацијент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аветовање пацијента и едукација о употреби капи за оч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зинфекција!!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жно очистити капак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епарат у фрижидеру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апи и маст- временски размак између доз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Чување- температура и рок трајањ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0000" indent="-2700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очива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4604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Јанковић С. Приручник за практичну наставу и фармакологије и токсикологије. 2018, Факултет медицинских наука, Крагујевац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Rang i Dal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Farmakologija, 8. izdanj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Data Statu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Joint Formulary Committe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NF 78 (British National Formulary) September 2019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acmillan Distribution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ndara"/>
              </a:rPr>
              <a:t>Katzu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ndara"/>
              </a:rPr>
              <a:t>B, Trevor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А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asic and Clinical Pharmacology, 14th Editi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2017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cGraw Hill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hittlesea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, Hods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linical Pharmacy and Therapeutics, International Edition, 6th Editi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 2018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Elsevier Science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iffe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P, Mitchell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, Snelli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, Stoner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xford Handbook of Clinical Pharmacy (Oxford Medical Handbooks)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7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Oxford University Pres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АЛИМС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Urednici:, Nenad Ugrešić, Vesela Radonjić, Ljiljana Đukić, Violeta Stanimirović, Branka Terzić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Farmakoterapijski vodič 6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6.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Agencija za lekove i medicinska sredstva Srbij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eograd.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mPC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лекова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ndara"/>
                <a:hlinkClick r:id="rId1"/>
              </a:rPr>
              <a:t>https://www.alims.gov.rs/ciril/lekovi/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alvemark Sporro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aa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ommunication in Pharmacy Practic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DPIBasel, Switzerland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alker R, Whittlesea C. Clinical Pharmacy and Therapeutics. 2012 Elsevier Ltd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Литератур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Добра комуникациј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ложај особа са инвалидитетом у нашој земљи уређен је бројним законским и подзаконским актим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ма јединствених и универзалних правила за решавањ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комуникацијских проблем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едлог: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римен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штих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 начела добре комуникације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Примена препорука за успешнију комуницију са људима који имају специфичне тешкоћ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Са старењем...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603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 вези са процесом старења, бројне су телесне, психофизичке, биолошке и социјалне промене које битно одређују функционалне способности и комуникацијске одлике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ојединих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ажно: Могућ је развој тешкоћа због телесних и психофизичких промена у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ријој доби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 комуникацији с другима, па и са особама које имају поједине тешкоће у комуникацији, добро је водити рачуна о </a:t>
            </a:r>
            <a:r>
              <a:rPr b="0" lang="ru-RU" sz="2400" spc="-1" strike="noStrike">
                <a:solidFill>
                  <a:srgbClr val="0033cc"/>
                </a:solidFill>
                <a:latin typeface="Candara"/>
              </a:rPr>
              <a:t>елементим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који могу допринети успешности исте.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Како се поставити?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cc"/>
                </a:solidFill>
                <a:latin typeface="Candara"/>
              </a:rPr>
              <a:t>Говор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Говорити гласно, јасно и не брзо. Током разговора треба бити лицем окренут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а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аговорнику. Формулисати једноставне и недвосмислене реченице, бирати лако разумљиве речи, а говор прилагодити стању и особинама саговорника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05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cc"/>
                </a:solidFill>
                <a:latin typeface="Candara"/>
              </a:rPr>
              <a:t>Слушањ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аговорнику треба показати да га слушамо - гледати га у очи, дати невербалне знакове (к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имање главом, израз лица). Треба отклонити спољашње и унутрашње сметње - нпр. не разговарати на бучноме месту или размишљати о некој другој обавези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е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гледати на сат...</a:t>
            </a:r>
            <a:br>
              <a:rPr sz="2200"/>
            </a:b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Како се поставити?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500" spc="-1" strike="noStrike">
                <a:solidFill>
                  <a:srgbClr val="0033cc"/>
                </a:solidFill>
                <a:latin typeface="Candara"/>
              </a:rPr>
              <a:t>Стрпљењ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орност и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трпљење важни су за успех комуникације. Пожуривање оваквих пацијената може узроковати неразумевање, сукоб, прекид комуникације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500" spc="-1" strike="noStrike">
                <a:solidFill>
                  <a:srgbClr val="0033cc"/>
                </a:solidFill>
                <a:latin typeface="Candara"/>
              </a:rPr>
              <a:t>Поштовање и прихватање</a:t>
            </a:r>
            <a:br>
              <a:rPr sz="2500"/>
            </a:b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авике, начин размишљања, ставови, одлуке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ndara"/>
              </a:rPr>
              <a:t>Комуникација са особама ослабљеног вид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480" y="165240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епоруке при комуникацији 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•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аветовати особу о употреби наочара и држању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истих увек при руци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•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Осигурати одговарајућу расвету (извор светлости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•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едставити се именом пре почетка разговор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•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мено објаснити сваку писану поруку или други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адржај који се жели пренети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•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ечима описати збивања и предмете за које желите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да их особа разуме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Брајева азбука на лековим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ецијално писмо намењено особама са слабим видом или слепим особама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оизашло је из тзв. ноћног писма тајне службе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Луј Брај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савршио ову технику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сновна ћелија Брајевог писма састоји се из шест тачак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 сваком слову одговара одређена комбинациј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наведених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анас, фармацеутске куће “пласирају”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 тржиште леков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а чијем с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паковању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алазе одређени подаци написани и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Брајевом азбуком за слеп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и слабовиде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Комуникација са особама ослабљеног слух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52240"/>
            <a:ext cx="8351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Препоруке при комуникацији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ко особа користи слушни апарат, треба проверити да ли 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он 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добро рад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Уколико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особа боље чује на једно ухо, усмерити говор “на ту страну”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Говорити јасно и гласно, разговетно, не пребрз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Ако говорите високим гласом, покушајте га снизити (учинити дубљим, при коминикацији са старијим особам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Говорити окренут лицем ка саговорнику, како би му израз лица и покрети усана помогли у разумевању порук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Усмену поруку треба допунити невербалном комуникацијо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При разговору, не стављати руку пред уста и не жвакати храну или гуму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Смањити буку у позадини током разговора (угасити радио или телевизор на пример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640" indent="-256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Покушајте добити повратну информацију, како бисте сазнали колико је особа чула и разумела упућене јој порук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13</cp:lastModifiedBy>
  <dcterms:modified xsi:type="dcterms:W3CDTF">2021-01-29T09:01:31Z</dcterms:modified>
  <cp:revision>464</cp:revision>
  <dc:subject>Klinicki farmakolog</dc:subject>
  <dc:title>Predavanje za sajt fakulteta</dc:title>
</cp:coreProperties>
</file>